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867-81DD-4771-9C65-AF38BF7E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29B-E950-4233-9725-9A3159DD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620-AB70-4233-98BB-91553C21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F24-9C9B-4199-9F9B-BBEEB365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50A3-078F-4B67-A079-3F183294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9A6D-AD5E-4288-A60D-099A3CC8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0EB4-EFA0-4AE8-9029-68B3E646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E2A3-AE14-48E0-99C0-FEF0DE16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1111-8083-471B-96D9-B036AB5F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211C-07FA-48D1-943D-CBB3696C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3371-510E-43EE-AD42-264D88E6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AC0-A701-4347-A92E-2FC778B5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D31C-E438-41A4-AB5E-64A3CBBF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A7FE-1C38-43BB-8F3F-32264691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02A5-7BE2-4DFD-A90E-76748C0E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90DD-BBD3-45A4-891D-EABE501C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75248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390204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1B0D-85C8-4ED3-AEE3-04A0C668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CCF3-465A-43FB-BBE2-E203849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D88-BA47-4A72-B2C5-BE748544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269-2EC5-4C44-A4A0-FFAB3A5D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148-C96E-4B65-9ADB-C1CB03E6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85B-8314-4C62-BB6F-67DE1145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204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9229-9705-475C-B637-9C769F17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75248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9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C6D-6FD5-436A-8D01-ED18363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3511-3F03-4E69-982A-5AD34DD6A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5720" y="83772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293E-0FB0-41D0-924F-1923577BD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85720" y="837720"/>
            <a:ext cx="6172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Chapter 8 Review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85720" y="2209320"/>
            <a:ext cx="6172200" cy="34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 15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Vividnes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id information captures our attention because it provides us with a verbal “pictu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messages are vivid, receivers think about them more and thereby internalize more of their con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Intensity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wers (1964) defines language intensity as “the quality of language which indicates the degree to which the speaker’s attitude deviates from neutrali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theor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inforcement theory: motivated to avoid pain and seek plea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nguage expectancy theory: assumes we have expectations about intensity level, violations of expected level can help or hu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processing theory: you must attend to and comprehend a message first, then compare your position to the one being argu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accomodation theory: we adjust our style to gain appro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Powerfulnes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powerful language make the communicator appear to be more attractive, credible, and persua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Powerlessnes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of speech mannerism indicating powerlessn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s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f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e 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g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lai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ictic phr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What is a symbol?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ymbol is something that represents something el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s are arbitr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s are conventionalized.  To communicate with others, we need to agree on a symbol’s mea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Connotative meaning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fers to the thoughts and emotions associated with a wo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vary widely from person to per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Denotative meaning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word’s explicit, dictionary defin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an be problematic, if the meaning of a word changes, but it is generally agreed up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Ultimate Term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hard Weaver (1953) described ultimate terms as words or phrases that are highly revered, widely accepted, and carry special power in a cul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terms: carry the greatest blessing, demand sacrifice or obe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l terms: perceived by a culture as absolutely abhorrent and disgu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ismatic terms: have a power that is mysteriously gi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Labeling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els can affect attitu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an encompass personal names, sexist language, racist languag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Euphemisms and Doublespeak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phemisms are terms substituted for offensiv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speak is ambiguous or evasiv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Profanity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types of profanity: sexual, excretory, and relig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show that if you want to be perceived as attractive, credible, and persuasive, you should not use profan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urlz MT"/>
              </a:rPr>
              <a:t>Political Correctness</a:t>
            </a:r>
            <a:endParaRPr b="0" lang="en-US" sz="4400" spc="-1" strike="noStrike">
              <a:solidFill>
                <a:srgbClr val="ffffff"/>
              </a:solidFill>
              <a:latin typeface="Curlz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refers to issues of inclusive speech and advocacy of nonracist, nonageist, nonsexist, and nonhomophobic termi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5:28:09Z</dcterms:created>
  <dc:creator>nuhs</dc:creator>
  <dc:description/>
  <dc:language>en-US</dc:language>
  <cp:lastModifiedBy>nuhs</cp:lastModifiedBy>
  <dcterms:modified xsi:type="dcterms:W3CDTF">2007-10-15T15:52:47Z</dcterms:modified>
  <cp:revision>3</cp:revision>
  <dc:subject/>
  <dc:title>Chapter 8 Review</dc:title>
</cp:coreProperties>
</file>